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drumroll.wav" ContentType="audio/x-wav"/>
  <Override PartName="/ppt/media/image13.jpeg" ContentType="image/jpeg"/>
  <Override PartName="/ppt/media/image4.png" ContentType="image/png"/>
  <Override PartName="/ppt/media/image2.png" ContentType="image/png"/>
  <Override PartName="/ppt/media/image3.wmf" ContentType="image/x-wmf"/>
  <Override PartName="/ppt/media/image1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388-FDCA-4F4A-AAA1-4C22B269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AF3-AF87-4040-ACB8-7AD8BAA2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2A0F-5796-485C-9A7F-B7EF16E7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5F8-8578-4DD2-89E8-ACBDCB01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45DF-5364-4D86-BFD4-AC7A8294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B626-B1CB-4BD5-8D35-473D1BC8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D61A-C285-4D63-AAB3-6C207AD1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1302-1D97-42E5-AE26-6E6782F2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47FB-9EBF-468E-885C-36A923C7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00C3-6952-4418-B6FC-8D96E944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66DF-C442-425B-99FD-E07F7F7B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32B-0B4D-498F-AA58-E444A64B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0EBE-FF98-403A-B15D-262209BE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330A-FD79-4576-A953-E008D289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A0B5-5222-4701-A4A8-E79444FD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5A35-5E10-4EAD-BA84-E42F0E5F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A7B4-9DAC-4EB7-BA92-2E382395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69655-5273-4587-AA00-0E31F92C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E13DE-0BE6-4200-A89F-3DAA5A13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A1DA6-B622-4472-AAC4-472AAEC0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E078C-5734-468F-90FF-E4F3526E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EE48C-6F4D-4F83-804F-6BCB31F4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2F9F-AFAC-4A3D-A7D3-67360275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7EF24-F564-424F-8BBA-16ABC1E9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4E1AA-387B-4CDF-ACA8-13E7A2A5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C09F4-44F7-4A85-B21E-C1AF4C9A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5FB5F-52EB-430A-B98F-21EFC405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CB1EC-C45B-420F-8014-A86E067D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C8E4B-F23F-4BFF-ABE6-B4CB2A58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BFF83-F409-488F-8A55-4BFE8308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148DB-862C-4111-991D-19ADCC8B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9D839-1B69-4F50-A9F9-D7470CFD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3C3CA-533D-4B15-87CD-7C7362BA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9784-5E79-4C55-BF0A-0B9D816E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6DE70-9500-4142-8F49-A74F27A3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3E979-6245-4297-A8E7-E4DF1E80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1F92C-774F-4A1E-A547-A9AAE265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B75D1-A2D1-46F5-86C3-E45B87FD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3BA73-FAF0-463A-963D-C5491D66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EF9AB-F6B0-48D8-86B0-C2E9D4E6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F9F83-61E3-474F-BB56-DDCA4DC9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0B87F-DAC0-41DB-93C8-A0FE2FBB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9F462-18BC-4045-81A3-68F62B05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0888E-A433-430E-A57B-94B62E09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0D5-50F9-47CA-B68A-BC5713C2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4460B-E8CB-4933-90B2-B5F60A86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36994-4FD5-42BF-8257-F2A8BA31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50607-ACC7-4C03-B955-2E684A97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EBA2D-7178-496F-8603-C10EA2A7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76A56-21FF-4246-AC47-78115DD4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8B61C-A671-4B80-A5CC-4B6CB300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68239-EF1A-48D5-B141-3919F229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1ED0D-86B2-4694-9AAC-B6860C11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BD6CA-E6C5-42DA-BA6A-BCD5D09C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A5D5E-DC32-4E5F-B5D8-DC093A72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D5A-B4A9-4B4B-B84E-69DC555B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C5DA2-2672-4F46-A4A2-E1C7C5FA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4A51F-A293-4764-A26E-9E711464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E8EF2-9B88-4280-8654-9FA97F0E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BE1FE-E400-454E-9FF4-401E2436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ABE48-EBA7-4AA7-8943-785685DF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80FAF-2495-4083-8504-791BFE28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1ED8D-ACA2-4C16-A674-5F6351C1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94BC4-01A5-4DEC-9302-9C17C757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040A7-8BB2-4B5B-A7D5-1DFC975D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EF054-AE7F-4F3D-98FC-A1DECDA7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F3A-333C-48B7-87E5-C15C7161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13A35-414D-4165-97CC-D433D65E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34028-4B94-43A3-95E0-54EF77BC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7C7E3-A61A-425D-83C9-4F4CECEE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713D4-B3E4-41F9-92C0-8B10821F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73694-61BF-45A3-A5AE-726D2675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CCEBB-0DC1-4B11-B193-026CDCA0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322A5-E80A-4C11-A13B-B4F94AA1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955E4-40BD-47EC-8818-D8D6C911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3CBFD-0E7F-46F4-B996-10F69803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07314-51F9-4E9B-A632-5851998A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F4F2-7887-4C95-9BC0-CBF51A98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52846-02D9-4A2F-9C53-9C8033F4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204FA-C612-4146-855E-F343DBD1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BD961-8FB8-49EB-B994-0DB1C48E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A8074-B6DC-493F-A5BB-6702C4CF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C40BA-1278-476A-BEFE-91F86856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DC332-D5FC-44F5-8A1D-CB058E13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0C771-965A-44E9-B7B5-16E4672D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119C1-2053-4EB7-8BCA-C1E14BA7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00039-61C2-46BF-8E66-7798E177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15149-8BFE-4084-8BD0-93E8E111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146-E8D3-4C76-9A1C-D3D7A5CA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20F1A-D2DA-4C4A-A761-E6A9FE60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D2479-0F69-4027-802E-7B2EB982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8CE53-9C78-4C37-B6F5-A5BF612D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6D81C-823C-4146-A169-9627EEDC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F64AA-4C2C-4A33-A822-3B126529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141C1-CFC5-4041-945B-0B436911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8E8EC-6B52-4CDA-9FC0-40A424B6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67B8-976C-49A2-9921-93B8E903C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1225-7F07-4FEC-9EBC-2EF1EC404FD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9BAF-A308-4C70-AD7D-3A8BAA8F0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38DA-9321-4278-B9B5-F1AC189E3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F68D-F5EB-4FEF-8C0E-0D62DD1D6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5996-BA80-4CFB-A812-F6794BCFA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27F3-AF51-429C-8F7A-59F2F0CEB7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0F3B-0BD7-4B2F-AD05-4058D3F2C79B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WordArt 4" descr=""/>
          <p:cNvPicPr/>
          <p:nvPr/>
        </p:nvPicPr>
        <p:blipFill>
          <a:blip r:embed="rId1"/>
          <a:stretch/>
        </p:blipFill>
        <p:spPr>
          <a:xfrm>
            <a:off x="701640" y="85680"/>
            <a:ext cx="750888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1 Título" descr=""/>
          <p:cNvPicPr/>
          <p:nvPr/>
        </p:nvPicPr>
        <p:blipFill>
          <a:blip r:embed="rId1"/>
          <a:stretch/>
        </p:blipFill>
        <p:spPr>
          <a:xfrm>
            <a:off x="-19080" y="268200"/>
            <a:ext cx="871236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Rock_Climbing_SanDiego"/>
          <p:cNvPicPr/>
          <p:nvPr/>
        </p:nvPicPr>
        <p:blipFill>
          <a:blip r:embed="rId1"/>
          <a:stretch/>
        </p:blipFill>
        <p:spPr>
          <a:xfrm>
            <a:off x="-428760" y="0"/>
            <a:ext cx="6572520" cy="7429680"/>
          </a:xfrm>
          <a:prstGeom prst="rect">
            <a:avLst/>
          </a:prstGeom>
          <a:ln w="0">
            <a:noFill/>
          </a:ln>
        </p:spPr>
      </p:pic>
      <p:sp>
        <p:nvSpPr>
          <p:cNvPr id="362" name="4 CuadroTexto"/>
          <p:cNvSpPr/>
          <p:nvPr/>
        </p:nvSpPr>
        <p:spPr>
          <a:xfrm>
            <a:off x="5715000" y="1143000"/>
            <a:ext cx="494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8000" spc="-1" strike="noStrike">
                <a:solidFill>
                  <a:srgbClr val="ffffff"/>
                </a:solidFill>
                <a:latin typeface="Arial"/>
              </a:rPr>
              <a:t>Climb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5" descr="shouting"/>
          <p:cNvPicPr/>
          <p:nvPr/>
        </p:nvPicPr>
        <p:blipFill>
          <a:blip r:embed="rId1"/>
          <a:stretch/>
        </p:blipFill>
        <p:spPr>
          <a:xfrm>
            <a:off x="0" y="-142920"/>
            <a:ext cx="6400800" cy="7000920"/>
          </a:xfrm>
          <a:prstGeom prst="rect">
            <a:avLst/>
          </a:prstGeom>
          <a:ln w="0">
            <a:noFill/>
          </a:ln>
        </p:spPr>
      </p:pic>
      <p:pic>
        <p:nvPicPr>
          <p:cNvPr id="364" name="4 CuadroTexto" descr=""/>
          <p:cNvPicPr/>
          <p:nvPr/>
        </p:nvPicPr>
        <p:blipFill>
          <a:blip r:embed="rId2"/>
          <a:stretch/>
        </p:blipFill>
        <p:spPr>
          <a:xfrm>
            <a:off x="7412040" y="457200"/>
            <a:ext cx="2232000" cy="76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5" descr="running"/>
          <p:cNvPicPr/>
          <p:nvPr/>
        </p:nvPicPr>
        <p:blipFill>
          <a:blip r:embed="rId1"/>
          <a:stretch/>
        </p:blipFill>
        <p:spPr>
          <a:xfrm>
            <a:off x="-2427120" y="0"/>
            <a:ext cx="12420360" cy="8286840"/>
          </a:xfrm>
          <a:prstGeom prst="rect">
            <a:avLst/>
          </a:prstGeom>
          <a:ln w="0">
            <a:noFill/>
          </a:ln>
        </p:spPr>
      </p:pic>
      <p:sp>
        <p:nvSpPr>
          <p:cNvPr id="366" name="4 CuadroTexto"/>
          <p:cNvSpPr/>
          <p:nvPr/>
        </p:nvSpPr>
        <p:spPr>
          <a:xfrm>
            <a:off x="-928800" y="1500120"/>
            <a:ext cx="32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8000" spc="-1" strike="noStrike">
                <a:solidFill>
                  <a:srgbClr val="ffffff"/>
                </a:solidFill>
                <a:latin typeface="Arial"/>
              </a:rPr>
              <a:t>Run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5" descr="lakota_jumping"/>
          <p:cNvPicPr/>
          <p:nvPr/>
        </p:nvPicPr>
        <p:blipFill>
          <a:blip r:embed="rId1"/>
          <a:stretch/>
        </p:blipFill>
        <p:spPr>
          <a:xfrm>
            <a:off x="-1297080" y="-1074600"/>
            <a:ext cx="11738160" cy="9007200"/>
          </a:xfrm>
          <a:prstGeom prst="rect">
            <a:avLst/>
          </a:prstGeom>
          <a:ln w="0">
            <a:noFill/>
          </a:ln>
        </p:spPr>
      </p:pic>
      <p:sp>
        <p:nvSpPr>
          <p:cNvPr id="368" name="4 CuadroTexto"/>
          <p:cNvSpPr/>
          <p:nvPr/>
        </p:nvSpPr>
        <p:spPr>
          <a:xfrm>
            <a:off x="6072120" y="428760"/>
            <a:ext cx="383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ffffff"/>
                </a:solidFill>
                <a:latin typeface="Arial"/>
              </a:rPr>
              <a:t>Jump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5" descr="flying-stork"/>
          <p:cNvPicPr/>
          <p:nvPr/>
        </p:nvPicPr>
        <p:blipFill>
          <a:blip r:embed="rId1"/>
          <a:stretch/>
        </p:blipFill>
        <p:spPr>
          <a:xfrm>
            <a:off x="-1279440" y="-960480"/>
            <a:ext cx="11704680" cy="8778960"/>
          </a:xfrm>
          <a:prstGeom prst="rect">
            <a:avLst/>
          </a:prstGeom>
          <a:ln w="0">
            <a:noFill/>
          </a:ln>
        </p:spPr>
      </p:pic>
      <p:sp>
        <p:nvSpPr>
          <p:cNvPr id="370" name="4 CuadroTexto"/>
          <p:cNvSpPr/>
          <p:nvPr/>
        </p:nvSpPr>
        <p:spPr>
          <a:xfrm>
            <a:off x="365760" y="5715000"/>
            <a:ext cx="153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ffffff"/>
                </a:solidFill>
                <a:latin typeface="Arial"/>
              </a:rPr>
              <a:t>Fly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5" descr="Fatty_watching_himself_on_TV"/>
          <p:cNvPicPr/>
          <p:nvPr/>
        </p:nvPicPr>
        <p:blipFill>
          <a:blip r:embed="rId1"/>
          <a:stretch/>
        </p:blipFill>
        <p:spPr>
          <a:xfrm>
            <a:off x="-285840" y="-1074600"/>
            <a:ext cx="6929640" cy="9007200"/>
          </a:xfrm>
          <a:prstGeom prst="rect">
            <a:avLst/>
          </a:prstGeom>
          <a:ln w="0">
            <a:noFill/>
          </a:ln>
        </p:spPr>
      </p:pic>
      <p:pic>
        <p:nvPicPr>
          <p:cNvPr id="372" name="4 CuadroTexto" descr=""/>
          <p:cNvPicPr/>
          <p:nvPr/>
        </p:nvPicPr>
        <p:blipFill>
          <a:blip r:embed="rId2"/>
          <a:stretch/>
        </p:blipFill>
        <p:spPr>
          <a:xfrm>
            <a:off x="7448400" y="-42840"/>
            <a:ext cx="2232000" cy="9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ClappingHands"/>
          <p:cNvPicPr/>
          <p:nvPr/>
        </p:nvPicPr>
        <p:blipFill>
          <a:blip r:embed="rId1"/>
          <a:stretch/>
        </p:blipFill>
        <p:spPr>
          <a:xfrm>
            <a:off x="0" y="-1074600"/>
            <a:ext cx="9501120" cy="9007200"/>
          </a:xfrm>
          <a:prstGeom prst="rect">
            <a:avLst/>
          </a:prstGeom>
          <a:ln w="0">
            <a:noFill/>
          </a:ln>
        </p:spPr>
      </p:pic>
      <p:sp>
        <p:nvSpPr>
          <p:cNvPr id="374" name="4 CuadroTexto"/>
          <p:cNvSpPr/>
          <p:nvPr/>
        </p:nvSpPr>
        <p:spPr>
          <a:xfrm>
            <a:off x="6572880" y="5214960"/>
            <a:ext cx="22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Clap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animClr clrSpc="rgb">
                                      <p:cBhvr>
                                        <p:cTn id="114" dur="1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set>
                                      <p:cBhvr>
                                        <p:cTn id="115" dur="1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path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66 0.00799 -0.115 0.02797 -0.115 0.04396 C -0.115 0.05861 -0.067 0.06927 -0.003 0.06927 C 0.061 0.06927 0.115 0.05861 0.115 0.04396 C 0.115 0.02797 0.059 0.02398 -0.005 0.03463 C -0.068 0.04662 -0.115 0.0666 -0.115 0.08126 C -0.115 0.09591 -0.066 0.1079 -0.003 0.1079 C 0.061 0.1079 0.115 0.09591 0.115 0.08126 C 0.115 0.0666 0.059 0.06261 -0.004 0.07327 C -0.068 0.08392 -0.115 0.1039 -0.115 0.11856 C -0.115 0.13454 -0.066 0.14653 -0.002 0.14653 C 0.061 0.14653 0.115 0.13454 0.115 0.11856 C 0.115 0.10524 0.059 0.10124 -0.004 0.11056 C -0.067 0.12122 -0.115 0.14253 -0.115 0.15719 C -0.115 0.17184 -0.065 0.18383 -0.002 0.18383 C 0.063 0.18383 0.115 0.17184 0.115 0.15719 C 0.115 0.14253 0.06 0.13854 -0.003 0.1492 C -0.066 0.15985 -0.115 0.17983 -0.115 0.19449 C -0.115 0.21047 -0.065 0.22113 -0.001 0.22113 C 0.063 0.22113 0.115 0.20914 0.115 0.19449 C 0.115 0.17983 0.06 0.17584 -0.003 0.18649 C -0.066 0.19715 -0.115 0.21846 -0.115 0.23179 C -0.115 0.24644 -0.064 0.25843 -0.001 0.25843 C 0.063 0.25843 0.115 0.24644 0.115 0.23179 C 0.115 0.21846 0.061 0.21447 -0.003 0.22379 C -0.066 0.23445 -0.115 0.25576 -0.115 0.27042 C -0.115 0.28374 -0.064 0.29706 0 0.29706 C 0.064 0.29706 0.115 0.28507 0.115 0.27042 C 0.115 0.25576 0.061 0.25177 -0.002 0.26242 C -0.065 0.27308 -0.116 0.29306 -0.115 0.30772 C -0.114 0.32237 -0.064 0.33302 0 0.33302 C 0.064 0.33302 0.115 0.32104 0.115 0.30638 C 0.115 0.29306 0.063 0.28907 0 0.30105 E">
                                      <p:cBhvr>
                                        <p:cTn id="137" dur="5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0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WordArt 5"/>
          <p:cNvSpPr txBox="1"/>
          <p:nvPr/>
        </p:nvSpPr>
        <p:spPr>
          <a:xfrm>
            <a:off x="2700360" y="692280"/>
            <a:ext cx="403236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Play</a:t>
            </a:r>
            <a:endParaRPr b="0" lang="en-US" sz="8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Go</a:t>
            </a:r>
            <a:endParaRPr b="0" lang="en-US" sz="8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Do</a:t>
            </a:r>
            <a:endParaRPr b="0" lang="en-US" sz="8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mp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1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500"/>
                            </p:stCondLst>
                            <p:childTnLst>
                              <p:par>
                                <p:cTn id="38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3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500"/>
                            </p:stCondLst>
                            <p:childTnLst>
                              <p:par>
                                <p:cTn id="41" nodeType="after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animClr clrSpc="rgb">
                                      <p:cBhvr>
                                        <p:cTn id="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set>
                                      <p:cBhvr>
                                        <p:cTn id="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50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4" descr=""/>
          <p:cNvPicPr/>
          <p:nvPr/>
        </p:nvPicPr>
        <p:blipFill>
          <a:blip r:embed="rId1"/>
          <a:stretch/>
        </p:blipFill>
        <p:spPr>
          <a:xfrm>
            <a:off x="-6480" y="731880"/>
            <a:ext cx="7461360" cy="10303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j0299763"/>
          <p:cNvPicPr/>
          <p:nvPr/>
        </p:nvPicPr>
        <p:blipFill>
          <a:blip r:embed="rId2"/>
          <a:stretch/>
        </p:blipFill>
        <p:spPr>
          <a:xfrm>
            <a:off x="6948360" y="692280"/>
            <a:ext cx="1468440" cy="12096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6"/>
          <p:cNvSpPr/>
          <p:nvPr/>
        </p:nvSpPr>
        <p:spPr>
          <a:xfrm>
            <a:off x="468360" y="263700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3300"/>
                </a:solidFill>
                <a:latin typeface="Arial"/>
              </a:rPr>
              <a:t>Go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 = deportes terminados 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0" lang="es-ES_tradnl" sz="5400" spc="-1" strike="noStrike">
                <a:solidFill>
                  <a:srgbClr val="ff3300"/>
                </a:solidFill>
                <a:latin typeface="Arial"/>
              </a:rPr>
              <a:t>“-ing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468360" y="50324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Do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= el rest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4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9010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5" descr="Coach-KickingBall"/>
          <p:cNvPicPr/>
          <p:nvPr/>
        </p:nvPicPr>
        <p:blipFill>
          <a:blip r:embed="rId1"/>
          <a:stretch/>
        </p:blipFill>
        <p:spPr>
          <a:xfrm>
            <a:off x="1332000" y="0"/>
            <a:ext cx="647856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4 CuadroTexto"/>
          <p:cNvSpPr/>
          <p:nvPr/>
        </p:nvSpPr>
        <p:spPr>
          <a:xfrm>
            <a:off x="5072040" y="5572080"/>
            <a:ext cx="357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8000" spc="-1" strike="noStrike">
                <a:solidFill>
                  <a:srgbClr val="ffffff"/>
                </a:solidFill>
                <a:latin typeface="Britannic Bold"/>
              </a:rPr>
              <a:t>KICK</a:t>
            </a:r>
            <a:r>
              <a:rPr b="0" lang="es-ES" sz="8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258920" y="692280"/>
            <a:ext cx="67690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DOE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H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DANCE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1 Título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55160" cy="51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divin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535720"/>
          </a:xfrm>
          <a:prstGeom prst="rect">
            <a:avLst/>
          </a:prstGeom>
          <a:ln w="0">
            <a:noFill/>
          </a:ln>
        </p:spPr>
      </p:pic>
      <p:sp>
        <p:nvSpPr>
          <p:cNvPr id="358" name="4 CuadroTexto"/>
          <p:cNvSpPr/>
          <p:nvPr/>
        </p:nvSpPr>
        <p:spPr>
          <a:xfrm>
            <a:off x="3143160" y="5500800"/>
            <a:ext cx="3267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ffffff"/>
                </a:solidFill>
                <a:latin typeface="Britannic Bold"/>
              </a:rPr>
              <a:t>DIV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1 Título" descr=""/>
          <p:cNvPicPr/>
          <p:nvPr/>
        </p:nvPicPr>
        <p:blipFill>
          <a:blip r:embed="rId1"/>
          <a:stretch/>
        </p:blipFill>
        <p:spPr>
          <a:xfrm>
            <a:off x="328680" y="262080"/>
            <a:ext cx="8364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22:55Z</dcterms:created>
  <dc:creator>Bj</dc:creator>
  <dc:description/>
  <dc:language>en-US</dc:language>
  <cp:lastModifiedBy>I.E.S. FEDERICO GARCIA LORCA</cp:lastModifiedBy>
  <dcterms:modified xsi:type="dcterms:W3CDTF">2009-03-02T10:37:57Z</dcterms:modified>
  <cp:revision>16</cp:revision>
  <dc:subject/>
  <dc:title>Diapositiva 1</dc:title>
</cp:coreProperties>
</file>